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C95-C46A-410B-BF22-54A96751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041-C88B-4B67-A73B-B6D2BB2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A64-5632-4D2D-9EC0-815E15D1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510-C55B-483D-9FC9-4520CCE9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794-13AB-4A2A-A718-BD97322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22D-6072-40D0-AD22-DD242F7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B4E-8527-4800-B3A5-F0B22A8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89A-C3CE-4BA2-AD24-F9C79CF5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1D9-9813-4726-8887-52A226D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290-BDA5-4A85-A409-EEAC88E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378-84E9-48C6-A335-6CB9237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AD3-E4ED-42DC-9E67-0CCA68FC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712-A0B6-47D3-A287-5C64DDEB1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center around a particalar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d or s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se still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/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22100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/ded/i/cal/t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22T18:18:41Z</dcterms:modified>
  <cp:revision>1</cp:revision>
  <dc:subject/>
  <dc:title>PowerPoint Presentation</dc:title>
</cp:coreProperties>
</file>